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click.wav" ContentType="audio/x-wav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6029B25-69FE-46BF-B128-880BFB27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2351AF9-3093-44B2-A66B-92C7D1CE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ACDE3B2-42E0-450B-8469-80C633BD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DC894A6-01ED-4C26-A3BA-CE5226F3C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56D80AD-9A87-480B-9B34-E1F1E63B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3D699ED-1805-4AB5-98BF-91645F98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6456247-7EB0-4F9B-AD73-0524F717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4FCEA35-46A8-47A0-B0DA-31C2C002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4ED-13C8-4ACF-BE7F-1EB66DED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66F-0EA1-4B07-AA79-E88F310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07F-C110-4897-A7E7-D519345C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08C-EB29-400B-8ECC-455FCD34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0199-6C7A-43C7-AF48-B247B2A6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0237-71E5-4FC1-820E-72D70E9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A731-A42C-4908-A57C-A07CA64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D398-AC6A-4C58-BC1C-57FAF60C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0D0C-80E8-4131-9712-A6332BAE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6EB6-770E-4523-870B-B4988E2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456A-F776-4D4E-9DDE-5E5D795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3D2-9C2B-465C-A1E4-9FE703C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14B-21A5-4A14-9369-BCFC43F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3BE-735F-4079-8E39-DBAAD41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195-0395-446E-9CBA-49FB89D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52F6-A1D2-4C3B-9A15-FD79BDA6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91BA-1A65-496B-AC54-25F4F04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65FA-E1E6-4873-93EF-7E1ECEC6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1F27-CE48-48C6-88FD-D9C93B6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B099-C58C-412B-B26F-6BA5398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9A1E-E506-40BB-8BCB-78BF856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5243-C368-4016-96B6-1E04703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907-D021-4304-BE5E-484BC749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3EFE-2A08-4609-A7CE-14C8733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BB05-8C29-4200-925E-337E0C31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2EA4-5296-4CFB-B0A9-3F32F838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9C58-50A1-42FB-9711-5868653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86F1-72C5-4E01-8EEB-BFEA887A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4486-1FE8-4561-BBB5-221C39CE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E305-EE34-477F-8799-80084A69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82E1-8DB9-489A-BE98-4E90D0EB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2CAC-0C2D-48C6-A545-F86BD582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7D6C-6DC3-4B12-A2C7-DB75749C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B2F-4AF3-4E58-9D09-6E0B2797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9942-389A-4CE0-B8E7-47CEAB1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C6F6-A2C5-4E8B-A642-C95B842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87C9-B32F-4D65-B317-D83A904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1605-0632-4905-92EA-33D3038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5021-4646-4573-B198-E299DE3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0AE1-BCC2-421D-BF1B-688F64A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8939-3DB9-41A3-BE52-E212869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11A8-E864-4799-ADB1-1ADA50C4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5FF3-A85C-4DD8-8065-075B1C77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901F-68F4-40EA-B6C9-117018AF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A6C-3680-4F3A-9595-C68F334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7371-54D4-4019-ACEB-055ACAD2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6ADB-ACD5-498C-87E5-8E84DB2A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44BD-BA6C-4055-A2B7-83197F9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EB22-C2A4-4DC0-94EC-29D2D51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AFB4-3C4D-4F9F-AB31-0AAF329F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D6F96-AD34-4C03-BCEF-FACB78C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EC73-F024-4B0C-89C5-8143DD2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04E4-99C8-42D7-A7A5-CE97D9B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6FD0-3D6B-425C-A211-6C1F5BE6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7395-0554-428C-AA4B-76761DA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0F0-E488-414A-940D-4C84E85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60E9-B620-4844-8B89-ECC90288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D023-4BA9-4FC1-902E-E7D5618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A43E-1519-4CB5-B66A-A9AB48D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DFA1-5497-453C-A8DA-41398EFE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4DB4-D48B-45FA-B287-77FCD96F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2A7D-182A-4D56-AB67-2B1D45C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8236-494F-46AA-981A-2903294F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214C4-56E1-423D-8F6A-07B1D25C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DBCF-907E-403A-98C3-3E23D10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E930-2923-4BFB-8008-40807D23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69F-90F6-4E2E-90CA-FB563F2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AA5E-6DFD-47F4-968D-46B97CF8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6B05-DF65-4831-972B-0E7D42C4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6C308-AC36-458C-AA38-BC444379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474E3-C618-4835-9BC6-55D8BDCA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D4537-7CCB-4FA0-ADDC-1D11C9A9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1E9D-C8C5-45CE-814B-CF2B8C09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E1BB2-949F-4460-AD8D-B000BCD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85D0-2ADC-40F3-8233-1A1D999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0611E-7992-405B-81C6-2995F9D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586F-5757-4D6D-8E24-299D614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C80-149E-4B5E-A783-4E6818B4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E835-734B-4968-A0B0-50D6719C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CA342-226E-4F93-8C85-71AB18A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7A736-CEED-468F-971A-509FDF86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9BE6-1C26-4626-80AC-1E3537A0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D69A-C1B7-49F2-9FA0-FA77D0C4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5E945-453B-43E2-BF8A-06E16A6F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0D881-4AFA-4D44-A507-470496D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BFB3-9291-44EF-98F7-39527BD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62209-EA89-4438-B107-7245305A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76D3-8A72-49D0-A70F-3700ED1E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005-79A3-4D0D-A565-C675856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CFE47-E7E6-4367-99F3-7EF4C8A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5DFB0-5071-42AA-8A86-23E29CB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AC12-541B-4173-A81D-24B9313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31C2-4C5A-434F-BF30-EAA5A67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9223-77EA-4012-9043-95B7A3FC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55661-AE9E-424C-8624-4A26FC95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CA33-6C5D-422E-A195-17AACEDD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71C0-D6EE-4789-A55D-2AC87D32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839E-EB1B-4990-977F-38E318C7A4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FF1-0AE9-4F9F-8CFB-B93C534072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369-1BBA-4417-BD23-ACFC6ACB45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3AC-789A-4EB6-A852-0F31EC01CB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6AC0-221F-4368-BCE4-D8A54ABEC2D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9FD7-5A6E-47BB-AFEB-7032D786CC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454-BE17-45D4-A5B6-029743AA10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1. A-, Ab-, Abs- </a:t>
            </a:r>
            <a:r>
              <a:rPr b="0" lang="en-US" sz="3900" spc="-1" strike="noStrike">
                <a:solidFill>
                  <a:srgbClr val="0000cc"/>
                </a:solidFill>
                <a:latin typeface="Gill Sans MT"/>
              </a:rPr>
              <a:t>(write on the left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Gill Sans MT"/>
              </a:rPr>
              <a:t>(write on the right; skip tw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e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norm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sta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ru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str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ers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218960"/>
            <a:ext cx="3814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Gill Sans MT"/>
              </a:rPr>
              <a:t>(write on the righ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way; from; of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way.jpg"/>
          <p:cNvPicPr/>
          <p:nvPr/>
        </p:nvPicPr>
        <p:blipFill>
          <a:blip r:embed="rId1"/>
          <a:stretch/>
        </p:blipFill>
        <p:spPr>
          <a:xfrm>
            <a:off x="5334120" y="38098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-, An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040" y="1600200"/>
            <a:ext cx="381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pat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theist/ atheism (ist= one wh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sthes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oral (al= of or pertaining to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archy/ anarchi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; withou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5" name="Picture 6" descr="anonmous.jpg"/>
          <p:cNvPicPr/>
          <p:nvPr/>
        </p:nvPicPr>
        <p:blipFill>
          <a:blip r:embed="rId1"/>
          <a:stretch/>
        </p:blipFill>
        <p:spPr>
          <a:xfrm>
            <a:off x="3733920" y="4038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anarchy.jpg"/>
          <p:cNvPicPr/>
          <p:nvPr/>
        </p:nvPicPr>
        <p:blipFill>
          <a:blip r:embed="rId2"/>
          <a:stretch/>
        </p:blipFill>
        <p:spPr>
          <a:xfrm>
            <a:off x="6019920" y="3429000"/>
            <a:ext cx="289548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cr-, Acro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ny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b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phobia (phobia= abnormal fea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ropol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igh; height; topmo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6" descr="acobat.jpg"/>
          <p:cNvPicPr/>
          <p:nvPr/>
        </p:nvPicPr>
        <p:blipFill>
          <a:blip r:embed="rId1"/>
          <a:stretch/>
        </p:blipFill>
        <p:spPr>
          <a:xfrm>
            <a:off x="5562720" y="3760920"/>
            <a:ext cx="1457280" cy="18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acrobatt.jpg"/>
          <p:cNvPicPr/>
          <p:nvPr/>
        </p:nvPicPr>
        <p:blipFill>
          <a:blip r:embed="rId2"/>
          <a:stretch/>
        </p:blipFill>
        <p:spPr>
          <a:xfrm>
            <a:off x="7162920" y="426708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crobattt.jpg"/>
          <p:cNvPicPr/>
          <p:nvPr/>
        </p:nvPicPr>
        <p:blipFill>
          <a:blip r:embed="rId3"/>
          <a:stretch/>
        </p:blipFill>
        <p:spPr>
          <a:xfrm>
            <a:off x="3505320" y="52578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acropolis.jpg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-, Alti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imeter (meter= a measur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itu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igh; heigh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6" descr="altar.jpg"/>
          <p:cNvPicPr/>
          <p:nvPr/>
        </p:nvPicPr>
        <p:blipFill>
          <a:blip r:embed="rId1"/>
          <a:stretch/>
        </p:blipFill>
        <p:spPr>
          <a:xfrm>
            <a:off x="3581280" y="4191120"/>
            <a:ext cx="1828800" cy="1895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altarr.jpg"/>
          <p:cNvPicPr/>
          <p:nvPr/>
        </p:nvPicPr>
        <p:blipFill>
          <a:blip r:embed="rId2"/>
          <a:stretch/>
        </p:blipFill>
        <p:spPr>
          <a:xfrm>
            <a:off x="7067520" y="3733920"/>
            <a:ext cx="207648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altimeter.jpg"/>
          <p:cNvPicPr/>
          <p:nvPr/>
        </p:nvPicPr>
        <p:blipFill>
          <a:blip r:embed="rId3"/>
          <a:stretch/>
        </p:blipFill>
        <p:spPr>
          <a:xfrm>
            <a:off x="304920" y="5029200"/>
            <a:ext cx="1752480" cy="1619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altitude.jpg"/>
          <p:cNvPicPr/>
          <p:nvPr/>
        </p:nvPicPr>
        <p:blipFill>
          <a:blip r:embed="rId4"/>
          <a:stretch/>
        </p:blipFill>
        <p:spPr>
          <a:xfrm>
            <a:off x="7467480" y="152280"/>
            <a:ext cx="148608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mbi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dextr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val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ve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bilate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o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6" descr="ambi.jpg"/>
          <p:cNvPicPr/>
          <p:nvPr/>
        </p:nvPicPr>
        <p:blipFill>
          <a:blip r:embed="rId1"/>
          <a:stretch/>
        </p:blipFill>
        <p:spPr>
          <a:xfrm>
            <a:off x="3352680" y="419112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ambii.jpg"/>
          <p:cNvPicPr/>
          <p:nvPr/>
        </p:nvPicPr>
        <p:blipFill>
          <a:blip r:embed="rId2"/>
          <a:stretch/>
        </p:blipFill>
        <p:spPr>
          <a:xfrm>
            <a:off x="5867280" y="34290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t-, Anti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are some words you can think of that use these prefix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ony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pat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biot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freez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aci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titox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at do you think these prefixes mea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gainst, oppos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6" descr="antacid.jpg"/>
          <p:cNvPicPr/>
          <p:nvPr/>
        </p:nvPicPr>
        <p:blipFill>
          <a:blip r:embed="rId1"/>
          <a:stretch/>
        </p:blipFill>
        <p:spPr>
          <a:xfrm>
            <a:off x="6477120" y="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antacidd.jpg"/>
          <p:cNvPicPr/>
          <p:nvPr/>
        </p:nvPicPr>
        <p:blipFill>
          <a:blip r:embed="rId2"/>
          <a:stretch/>
        </p:blipFill>
        <p:spPr>
          <a:xfrm>
            <a:off x="3505320" y="4724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antifreeze.jpg"/>
          <p:cNvPicPr/>
          <p:nvPr/>
        </p:nvPicPr>
        <p:blipFill>
          <a:blip r:embed="rId3"/>
          <a:stretch/>
        </p:blipFill>
        <p:spPr>
          <a:xfrm>
            <a:off x="6400800" y="3733920"/>
            <a:ext cx="251460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8-12-22T22:24:57Z</dcterms:modified>
  <cp:revision>26</cp:revision>
  <dc:subject/>
  <dc:title>Roots List #1</dc:title>
</cp:coreProperties>
</file>